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4.png" ContentType="image/png"/>
  <Override PartName="/ppt/media/image2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5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529E-8AAB-4CB9-90B1-D3CD6FC9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0E5D-2722-4717-87B7-B8B7375E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E3C1-00F2-4306-9D24-58F2A8BD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193-7A09-4433-B662-F85DA0FD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7808-FFCF-4E8F-BF9F-749AF80B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4513-0907-446E-A300-B2CD28E8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13C9-C41D-4F46-9F8E-C57B1A90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34CF-B07E-4917-85C2-F49992B2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3B18-C21E-45E5-9C35-EE38998F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8F0B-5443-4508-B1FB-A127CC8A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3BBB-D8CA-471B-A05E-A969E59A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3FA-F974-46C7-8DFE-3D856AD2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E051-99A9-475D-A3B7-BA584817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5990-0E01-4F45-AC3D-914D9A5C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53F4-3742-4BB0-92A5-8D55AFE4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B3A8-DEE2-49D1-8313-EC1AB128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98CC-41D3-4EBB-B82E-336FFF32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D7321-88F6-47F6-BB23-BD6BD241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FA85C-BFCF-406B-ABD5-7A0DCEE0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B8559-B532-406E-B463-200E6992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D0920-E27A-4D48-A350-EA32BA29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D06A1-60C7-44C7-B022-5AEB6EF9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6EC-A5E4-4923-95A3-49C82E3B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C642C-7AE6-4582-A4BE-4763741D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0861E-39F1-46F2-96CA-71257FC5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91E2B-F2E4-40B2-9271-07A5ECE4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74143-C582-4057-912C-4377B821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D69EA-EAEE-47B0-833D-17704830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59778-848C-437E-AA88-594FC973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383E6-54AA-4801-A039-36068433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5B1DF-8FF0-4F2F-833D-9CCA6284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EEBB0-440A-4DFF-B3A5-CE175CD0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90EDF-343A-4B0B-A6EB-D1ADCE26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137-AB8A-423B-B17C-BC45E9AC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8A534-E045-41D4-98FB-D3FFDA3D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30E8E-D9DB-46D6-A1EC-5BDB074D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2C068-734E-412C-A45D-E155579C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BE98B-AC5F-40A8-80E8-1DEB015F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8B30A-4887-4EBF-A4A2-1D805486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1B317-676C-4324-9ACC-4D19B47C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8DF84-0964-4455-AB83-4217EAB8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11891-0270-4004-99D6-91BDF097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8D72C-1D9D-4588-BAE5-D5CCD18D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8B5C3-7685-43FD-A8C3-1ABF35CA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129C-683A-4CBF-8B12-6DA0848B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18A3E-4811-4ECB-B9AD-9274B030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9853B-C7BD-4543-A917-9E2DCE6D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AD0CB-7165-4432-88CF-472DD920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C3892-B8FB-406A-A7AC-087D560E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63B31-DC15-4A2C-B51F-2C7091BF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377DD-92EB-44E3-B7DE-7CC88837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45E7B-7F4E-43FC-B566-50B9DCE0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69DC9-3CF7-4598-BF2F-E8C0B97A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A0DD1-3753-4D81-88BD-E555D696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45CF5-20E5-4A0F-BA57-64DDB737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3D8-A555-4F59-BDDC-79D3A188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47A34-BE40-442F-AB68-4316DF94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B6432-495F-421E-895E-ACBA5B70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4E371-96E9-4BBB-8F61-9331A7EB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4AA60-2BFE-4BFF-B578-46CA32A2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DD3EE-7C95-440B-B068-93E3D18B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D8A7A-981C-48A4-B9B2-E22970B9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53826-6029-4B35-B800-5DF5396B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D1880-9C2D-4006-BE4B-0AC2E085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548E3-8E93-43E6-B289-CA0CEA36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26DAC-32CA-45CF-A2B0-CEED8AA9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CA5-F560-4B4D-8AD8-F9B400C1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56D39-3265-44B7-8596-4301DE90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3475D-2678-49C7-9B5C-12E941E0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CDDAF-5686-4293-9DA0-D910112C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2EAFC-EC8D-4DA3-ABA7-C5CC3D0E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9C03F-1F5B-4C53-A25F-3809781A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AAAEC-EA5E-424B-826B-8B53D789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9BFCD-3D42-4BFC-AC4E-5FE716A9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B3616-0649-4B88-B56E-26511AA5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7CC75-622E-4C9D-B300-49C38D19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38780-9383-49F6-86E0-6100B119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A87E-46B1-49E8-919B-731693E3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2BA7D-513D-4395-86BB-68DBCBFF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63637-9922-4F77-9186-BB137FF9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6B3EA-D2C2-4BF4-8BD1-DB03E3EB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79880-A6B1-442C-9770-BEB8585B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38227-F51E-4404-AFB7-795B8C3E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1C57-3D24-432D-8E9F-6F9554C8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ladimir Scrip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AFF4-FE60-47AA-9A97-BFFDD5F6454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ladimir Scrip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3DEA-C1D8-493A-8E8F-FF2BB504AE0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ladimir Scrip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AF56-89FC-47D6-9002-82630D406F0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ladimir Scrip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2618-3DAA-4D33-A06F-8937C76C496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ladimir Scrip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AA98-4A83-4A90-9F87-4BC637B584D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ladimir Scrip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5B2F-F2AF-4D38-819A-C955D0F6552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ladimir Scrip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7129-6194-47CC-BB97-94EBF3D327D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mages.google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572314"/>
                </a:solidFill>
                <a:latin typeface="Vladimir Script"/>
              </a:rPr>
              <a:t>The Renaissance:</a:t>
            </a:r>
            <a:endParaRPr b="0" lang="en-US" sz="96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2570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e04"/>
                </a:solidFill>
                <a:latin typeface="Vladimir Script"/>
              </a:rPr>
              <a:t>A Flourish of Genius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e04"/>
                </a:solidFill>
                <a:latin typeface="Vladimir Script"/>
              </a:rPr>
              <a:t>1485-1660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Vladimir Script"/>
              </a:rPr>
              <a:t>Henry VIII – 1509-1547</a:t>
            </a:r>
            <a:endParaRPr b="0" lang="en-US" sz="5400" spc="-1" strike="noStrike">
              <a:solidFill>
                <a:srgbClr val="572314"/>
              </a:solidFill>
              <a:latin typeface="Vladimir Script"/>
            </a:endParaRPr>
          </a:p>
        </p:txBody>
      </p:sp>
      <p:pic>
        <p:nvPicPr>
          <p:cNvPr id="333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65120"/>
            <a:ext cx="7510320" cy="4889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http://philosophy.ucsd.edu/faculty/rutherford/hum3/images/holbein_henry_viii.jpg"/>
          <p:cNvPicPr/>
          <p:nvPr/>
        </p:nvPicPr>
        <p:blipFill>
          <a:blip r:embed="rId2"/>
          <a:stretch/>
        </p:blipFill>
        <p:spPr>
          <a:xfrm>
            <a:off x="1447920" y="1447920"/>
            <a:ext cx="17334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434960" y="456840"/>
            <a:ext cx="7499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Had 6 wiv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therine of Aragon (divorced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he was the daughter of Ferdinand and Isabella of Spai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ad one child with Henry—a daughter named Ma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ne Boleyn (beheaded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ad one child with Henry—a daughter named Elizabet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ane Seymour (died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ad one child with Henry—a s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41840" indent="-16416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amed Edwar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ne of Cleves (divorced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therine Howard (beheaded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therine Parr (survived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2" descr="http://www.ict.oxon-lea.gov.uk/best_practice/henry/The%20Wives%20of%20Henry%20VIII_title.jpg"/>
          <p:cNvPicPr/>
          <p:nvPr/>
        </p:nvPicPr>
        <p:blipFill>
          <a:blip r:embed="rId1"/>
          <a:stretch/>
        </p:blipFill>
        <p:spPr>
          <a:xfrm>
            <a:off x="6705720" y="3657600"/>
            <a:ext cx="21240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3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434960" y="380520"/>
            <a:ext cx="7499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Henry wanted his marriage to Catherine of Aragon annulled, but the pope refuse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is motives were that Catherine was too old to give him the male heir he thought he must have (she had already had 5 miscarriages) and he was already interested in Anne Boley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ope would not grant the annulment.  He was controlled by Queen Catherine’s nephew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Henry declared the pope had no authority in England, made the Church of England a separate institution, and established the king as the supreme head of the Church of England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456840"/>
            <a:ext cx="7499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nry appointed a new archbishop of Canterbury who declared Henry’s marriage invalid (based on scripture from Leviticus that states a man cannot marry his dead brother’s wife.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omas More (remember him?) remained loyal to the pope and refused to recognize Henry as the head of the Churc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nry had him beheaded.  (How ‘bout that for friendship??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Vladimir Script"/>
              </a:rPr>
              <a:t>Interesting Tidbits about Henry’s Wives</a:t>
            </a:r>
            <a:endParaRPr b="0" lang="en-US" sz="39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therine –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rried to Arthur, Henry’s brother, for all of 5 months; Arthur died of “sweating sickness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trothed to Henry 14 months later, but he was still too young to mar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enry was old enough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marry, Henry VII wasn’t a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een on a Spanish alliance, s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engagement was called off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Picture 2" descr="http://historygo.net/wp-content/themes/iblue/images/CatherineAragon.jpg"/>
          <p:cNvPicPr/>
          <p:nvPr/>
        </p:nvPicPr>
        <p:blipFill>
          <a:blip r:embed="rId1"/>
          <a:stretch/>
        </p:blipFill>
        <p:spPr>
          <a:xfrm>
            <a:off x="6629400" y="4114800"/>
            <a:ext cx="18763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434960" y="380520"/>
            <a:ext cx="7499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e Boleyn –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er sister Mary was one of Henry’s mistress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he was a lady-in-waiting to Catherine of Aragon (Yep, this was Henry’s wife.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d a relationship of some kind with Sir Thomas Wyat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 liked by the English peop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rested on charges of adultery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est (with her brother, George), and plott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rder of the k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trumped up charge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3" name="Picture 2" descr="http://englishhistory.net/tudor/monarchs/boleynmainjpg.jpg"/>
          <p:cNvPicPr/>
          <p:nvPr/>
        </p:nvPicPr>
        <p:blipFill>
          <a:blip r:embed="rId1"/>
          <a:stretch/>
        </p:blipFill>
        <p:spPr>
          <a:xfrm>
            <a:off x="7010280" y="3657600"/>
            <a:ext cx="19623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434960" y="380520"/>
            <a:ext cx="7499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ane Seymour –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trothed to Henry within 24 hours of Anne’s execut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ed two weeks after her son, Edward, was bor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enry remained single f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years following Jane’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at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Picture 2" descr="http://www.tudorjewels.com/photographs/jane%20seymour%20portrait.jpg"/>
          <p:cNvPicPr/>
          <p:nvPr/>
        </p:nvPicPr>
        <p:blipFill>
          <a:blip r:embed="rId1"/>
          <a:stretch/>
        </p:blipFill>
        <p:spPr>
          <a:xfrm>
            <a:off x="6400800" y="2895480"/>
            <a:ext cx="20383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Vladimir Script"/>
              </a:rPr>
              <a:t>Edward VI – 1547-1553</a:t>
            </a:r>
            <a:endParaRPr b="0" lang="en-US" sz="5400" spc="-1" strike="noStrike">
              <a:solidFill>
                <a:srgbClr val="572314"/>
              </a:solidFill>
              <a:latin typeface="Vladimir Script"/>
            </a:endParaRPr>
          </a:p>
        </p:txBody>
      </p:sp>
      <p:pic>
        <p:nvPicPr>
          <p:cNvPr id="347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65120"/>
            <a:ext cx="7510320" cy="4889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http://tudorhistory.org/edward/edward.jpg"/>
          <p:cNvPicPr/>
          <p:nvPr/>
        </p:nvPicPr>
        <p:blipFill>
          <a:blip r:embed="rId2"/>
          <a:stretch/>
        </p:blipFill>
        <p:spPr>
          <a:xfrm>
            <a:off x="1523880" y="1523880"/>
            <a:ext cx="17431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Vladimir Script"/>
              </a:rPr>
              <a:t>Mary Tudor – 1553-1558</a:t>
            </a:r>
            <a:endParaRPr b="0" lang="en-US" sz="5400" spc="-1" strike="noStrike">
              <a:solidFill>
                <a:srgbClr val="572314"/>
              </a:solidFill>
              <a:latin typeface="Vladimir Script"/>
            </a:endParaRPr>
          </a:p>
        </p:txBody>
      </p:sp>
      <p:pic>
        <p:nvPicPr>
          <p:cNvPr id="350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22280"/>
            <a:ext cx="7522920" cy="4932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http://englishhistory.net/tudor/monarchs/elizsister.jpg"/>
          <p:cNvPicPr/>
          <p:nvPr/>
        </p:nvPicPr>
        <p:blipFill>
          <a:blip r:embed="rId2"/>
          <a:stretch/>
        </p:blipFill>
        <p:spPr>
          <a:xfrm>
            <a:off x="1447920" y="1447920"/>
            <a:ext cx="17143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Vladimir Script"/>
              </a:rPr>
              <a:t>Elizabeth I -- 1558-1603</a:t>
            </a:r>
            <a:endParaRPr b="0" lang="en-US" sz="5400" spc="-1" strike="noStrike">
              <a:solidFill>
                <a:srgbClr val="572314"/>
              </a:solidFill>
              <a:latin typeface="Vladimir Script"/>
            </a:endParaRPr>
          </a:p>
        </p:txBody>
      </p:sp>
      <p:pic>
        <p:nvPicPr>
          <p:cNvPr id="353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65120"/>
            <a:ext cx="7651440" cy="4889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http://englishhistory.net/tudor/eliz1-ermine.jpg"/>
          <p:cNvPicPr/>
          <p:nvPr/>
        </p:nvPicPr>
        <p:blipFill>
          <a:blip r:embed="rId2"/>
          <a:stretch/>
        </p:blipFill>
        <p:spPr>
          <a:xfrm>
            <a:off x="1447920" y="1447920"/>
            <a:ext cx="1911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434960" y="380520"/>
            <a:ext cx="7499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Renaissanc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– a French word meaning rebirt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fers to renewed interest in writings of ancient Greece and Rom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ople learned to read Greek aga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reformed the Latin that they read, spoke, and wrot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Renaissance began in Ital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onardo da Vinci, Michelangelo, Christopher Columbus, and Galil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434960" y="456840"/>
            <a:ext cx="7499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Mary, Queen of Scots –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lizabeth’s cousi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legitimate heir to the thro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de threats on Elizabeth’s lif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lizabeth had her behead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feat of the Spanish Armada –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ing Phillip of Spain (Elizabeth’s brother-in-law) used the execution of Mary, Q of S, as an excuse to invade Engla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ssembled a large fleet of Spanish warship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Royal Navy, with the help of nasty weather, destroyed the Spanish Armad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s assured that England would be free from foreign invas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434960" y="380520"/>
            <a:ext cx="7499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ladimir Script"/>
              </a:rPr>
              <a:t>The Stuarts</a:t>
            </a:r>
            <a:endParaRPr b="0" lang="en-US" sz="9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ladimir Script"/>
              </a:rPr>
              <a:t>James I – 1603-1625</a:t>
            </a: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pic>
        <p:nvPicPr>
          <p:cNvPr id="358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16160"/>
            <a:ext cx="7510320" cy="4938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http://www.tudorplace.com.ar/images/Stuart,JamesI01.jpg"/>
          <p:cNvPicPr/>
          <p:nvPr/>
        </p:nvPicPr>
        <p:blipFill>
          <a:blip r:embed="rId2"/>
          <a:stretch/>
        </p:blipFill>
        <p:spPr>
          <a:xfrm>
            <a:off x="1447920" y="1447920"/>
            <a:ext cx="17431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Vladimir Script"/>
              </a:rPr>
              <a:t>Charles I –1625-1649</a:t>
            </a:r>
            <a:endParaRPr b="0" lang="en-US" sz="5400" spc="-1" strike="noStrike">
              <a:solidFill>
                <a:srgbClr val="572314"/>
              </a:solidFill>
              <a:latin typeface="Vladimir Script"/>
            </a:endParaRPr>
          </a:p>
        </p:txBody>
      </p:sp>
      <p:pic>
        <p:nvPicPr>
          <p:cNvPr id="361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65120"/>
            <a:ext cx="7754760" cy="4889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http://powayusd.sdcoe.k12.ca.us/online/Britlit/images/charlesI.jpg"/>
          <p:cNvPicPr/>
          <p:nvPr/>
        </p:nvPicPr>
        <p:blipFill>
          <a:blip r:embed="rId2"/>
          <a:stretch/>
        </p:blipFill>
        <p:spPr>
          <a:xfrm>
            <a:off x="1523880" y="1447920"/>
            <a:ext cx="1552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Vladimir Script"/>
              </a:rPr>
              <a:t>Oliver Cromwell – 1649-1660</a:t>
            </a:r>
            <a:endParaRPr b="0" lang="en-US" sz="5400" spc="-1" strike="noStrike">
              <a:solidFill>
                <a:srgbClr val="572314"/>
              </a:solidFill>
              <a:latin typeface="Vladimir Script"/>
            </a:endParaRPr>
          </a:p>
        </p:txBody>
      </p:sp>
      <p:pic>
        <p:nvPicPr>
          <p:cNvPr id="364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65120"/>
            <a:ext cx="7510320" cy="48895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http://www.art-prints-on-demand.com/kunst/gaspar_de_crayer/oliver_cromwell_1599_1658_hi.jpg"/>
          <p:cNvPicPr/>
          <p:nvPr/>
        </p:nvPicPr>
        <p:blipFill>
          <a:blip r:embed="rId2"/>
          <a:stretch/>
        </p:blipFill>
        <p:spPr>
          <a:xfrm>
            <a:off x="1447920" y="1447920"/>
            <a:ext cx="1969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Vladimir Script"/>
              </a:rPr>
              <a:t>Charles II – 1660-1685</a:t>
            </a:r>
            <a:endParaRPr b="0" lang="en-US" sz="5400" spc="-1" strike="noStrike">
              <a:solidFill>
                <a:srgbClr val="572314"/>
              </a:solidFill>
              <a:latin typeface="Vladimir Script"/>
            </a:endParaRPr>
          </a:p>
        </p:txBody>
      </p:sp>
      <p:pic>
        <p:nvPicPr>
          <p:cNvPr id="367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65120"/>
            <a:ext cx="7522920" cy="48895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http://content.answers.com/main/content/wp/en/thumb/3/3b/280px-Charles_II_of_England.png"/>
          <p:cNvPicPr/>
          <p:nvPr/>
        </p:nvPicPr>
        <p:blipFill>
          <a:blip r:embed="rId2"/>
          <a:stretch/>
        </p:blipFill>
        <p:spPr>
          <a:xfrm>
            <a:off x="1447920" y="1447920"/>
            <a:ext cx="1912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l images were found 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www.images.google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434960" y="762120"/>
            <a:ext cx="7499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edominant religion – Roman Catholi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urch financed intellectual and artistic endeavor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umanism – an intellectual moveme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umanism used Latin and Greek classics, along with the teachings of the Church, to teach people how to live and ru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434960" y="456840"/>
            <a:ext cx="7499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lutarch – “The aim of life is to attain virtue, not success or money or fame, because virtue is the best possible human possession and the only source of true happiness.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do YOU think about Plutarch’s idea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Picture 2" descr="http://media-2.web.britannica.com/eb-media/41/66541-004-582E8B66.jpg"/>
          <p:cNvPicPr/>
          <p:nvPr/>
        </p:nvPicPr>
        <p:blipFill>
          <a:blip r:embed="rId1"/>
          <a:stretch/>
        </p:blipFill>
        <p:spPr>
          <a:xfrm>
            <a:off x="3505320" y="3657600"/>
            <a:ext cx="20001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434960" y="380520"/>
            <a:ext cx="7499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Desiderius Erasmus –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-known Renaissance humani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tch monk who lived outside the monast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veled to many count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ed his writings to all educated people of Western Europ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ught Greek at Cambridge University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omas More –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young lawy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rote poems, biographi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st famous work wa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Utopi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ommon interests –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ved life, laughter, and classical learn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dicated to the Church but disapproved of the Church’s corrupt practic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434960" y="380520"/>
            <a:ext cx="7499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ohannes Gutenberg –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rma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vented printing with moveable ty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ted the first complete book—the Latin Bi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d to more books, which meant they were cheap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lliam Caxton –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rchant, diplomat, write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t up a printing press in Westmins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ssued about 100 titles in English, initiating a flood of print in Englis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434960" y="456840"/>
            <a:ext cx="7499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Reformation – a series of events that involved the rejection of the pope and the Italian churchm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English resented the financial burdens imposed on them by the Vatica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rtin Luther –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German mo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nded a new kind of Christianity based on a personal understanding of the Bible rather than on what the pope sai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72314"/>
                </a:solidFill>
                <a:latin typeface="Vladimir Script"/>
              </a:rPr>
              <a:t>The Renaissance Monarchs</a:t>
            </a:r>
            <a:endParaRPr b="0" lang="en-US" sz="60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ladimir Script"/>
              </a:rPr>
              <a:t>The Tudors</a:t>
            </a:r>
            <a:endParaRPr b="0" lang="en-US" sz="9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Vladimir Script"/>
              </a:rPr>
              <a:t>Henry VII – 1457-1509</a:t>
            </a:r>
            <a:endParaRPr b="0" lang="en-US" sz="5400" spc="-1" strike="noStrike">
              <a:solidFill>
                <a:srgbClr val="572314"/>
              </a:solidFill>
              <a:latin typeface="Vladimir Script"/>
            </a:endParaRPr>
          </a:p>
        </p:txBody>
      </p:sp>
      <p:pic>
        <p:nvPicPr>
          <p:cNvPr id="330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22280"/>
            <a:ext cx="7510320" cy="4932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http://mktimeline.com/henry7sittow1.jpg"/>
          <p:cNvPicPr/>
          <p:nvPr/>
        </p:nvPicPr>
        <p:blipFill>
          <a:blip r:embed="rId2"/>
          <a:stretch/>
        </p:blipFill>
        <p:spPr>
          <a:xfrm>
            <a:off x="1447920" y="1447920"/>
            <a:ext cx="17618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3:35:05Z</dcterms:created>
  <dc:creator>pcoles</dc:creator>
  <dc:description/>
  <dc:language>en-US</dc:language>
  <cp:lastModifiedBy>pcoles</cp:lastModifiedBy>
  <dcterms:modified xsi:type="dcterms:W3CDTF">2009-03-12T15:08:19Z</dcterms:modified>
  <cp:revision>28</cp:revision>
  <dc:subject/>
  <dc:title>The Renaissance:</dc:title>
</cp:coreProperties>
</file>